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07F1-B0A2-4538-9C7E-87BDE126E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calvin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combined with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E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form 4-carbo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xaloacet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enzyme PEP carboxylase)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ophyl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xaloacet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l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transported into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ndle-sheath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l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decarboxylated forming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nters the Calvi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otany.hawaii.edu/faculty/webb/bot311/bot311-00/psyn/PsynDark2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calvin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assulacean acid metabolism (CA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first discovered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rassulac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amily of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ta are closed during the day, so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only absorbed at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thway at night,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thway (Calvin cycle) during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afety4sea.com/page/14377/3/progress-in-fuel-creation-from-carbon-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assel.unl.edu/pages/informationmodule.php?idinformationmodule=1092853841&amp;topicorder=5&amp;maxto=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ncbi.nlm.nih.gov/books/NBK22344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m.wikipedia.org/wiki/File:Simplified_photorespiration_diagram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B355-80BF-4230-A9F9-4BBB3287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714A-8065-4EA5-9845-4417C515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099D-B699-479A-A76A-2E95708F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7ABF-9419-4B02-B684-A502EEC9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5BE4-86C9-4BAB-A0D9-96A7DF2F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D8A7-D7A9-4605-84EB-87BAEADC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DA53-9517-458C-ADED-16071A69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6D73-8ADE-44AD-840F-6B16AE96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E2C5-6D99-474E-92C8-E3BFB267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0F8D-3C1D-4FA9-B89E-A3CA7AFE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60E2-8D12-41EF-820B-BF947C56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8B0C-AC6B-4DD6-9A22-5417065A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1A50-A515-4270-BEFD-400BD73B9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uic.edu/classes/bios/bios100/lectures/c4.htm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0271348/student_view0/chapter6/chapter_quiz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Mechanisms of Carbon Fix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85960" y="1981080"/>
            <a:ext cx="3772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49200" y="1981080"/>
            <a:ext cx="6645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52440" y="1981080"/>
            <a:ext cx="2675160" cy="1981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13240" y="4114800"/>
            <a:ext cx="2479680" cy="1981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800600" y="1981080"/>
            <a:ext cx="2092320" cy="19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778040" y="41148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08280" y="1981080"/>
            <a:ext cx="5526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7008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557680" y="4114800"/>
            <a:ext cx="1986120" cy="1981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846440" y="4114800"/>
            <a:ext cx="1488960" cy="1981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989680" y="1981080"/>
            <a:ext cx="1127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of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ot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AM pla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ic.edu/classes/bios/bios100/lectures/c4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elf-quiz multiple choice quizzes from McGraw-Hill Ryer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sites/0070271348/student_view0/chapter6/chapter_quiz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highered.mcgraw-hill.com/sites/0073403474/student_view0/chapter5/pre-test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plants ne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hotosynthe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4% of atmosphere is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% is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343400" y="250524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41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plants need to limit water loss &amp; adapt to water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ation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waxy cu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o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70480" y="1676520"/>
            <a:ext cx="25178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bulose-1,5-bisphospha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xylase oxid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isCO catalyzes the first reaction of the Calvin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catalyze reaction between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Ru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719600" y="2209680"/>
            <a:ext cx="366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s on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 molecule of 3-P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produces a molecule that is not useful to the cell that must be removed in a series of reactions, which use ATP release 1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280" y="887400"/>
            <a:ext cx="891540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l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isCO has a higher affinity for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binds to it 75% of th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ot &amp; dry clim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ta close &amp; relative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ntration decreases due to Calvin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a pla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3:23:18Z</dcterms:created>
  <dc:creator>rubina khan</dc:creator>
  <dc:description/>
  <dc:language>en-US</dc:language>
  <cp:lastModifiedBy>rubina khan</cp:lastModifiedBy>
  <dcterms:modified xsi:type="dcterms:W3CDTF">2013-11-01T17:11:31Z</dcterms:modified>
  <cp:revision>125</cp:revision>
  <dc:subject/>
  <dc:title>Photosynthesis</dc:title>
</cp:coreProperties>
</file>